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EF1B4-967F-4D80-8F45-24490EB9E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7C9C2-480B-486B-99A5-4A7A16F0C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02EB8-063D-478C-9155-E83E2E4B5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3B8A1-807D-45BD-A050-3FCE49FCF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04AD6-0F1C-48AD-B337-121A8A6F5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B6515-D544-41DD-9B1B-C427C2710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3CD63-B38F-4CE9-B25B-9FBB5A4D2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72B1C-C607-4455-B278-654C5E8E6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C2BDE-7097-493D-A5FB-6CE7C3FD3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6BF51-553C-4028-AB4B-75A1018ED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E9102-6A6C-4761-AE7C-AA9783C49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4221B-4757-467A-8B7A-0BB519560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BEFC-2DCE-4EE1-9923-FD85862C64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380880"/>
            <a:ext cx="8534160" cy="4759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erimentalist’s Notes for Case 3</a:t>
            </a:r>
            <a:endParaRPr b="0" lang="en-US" sz="16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ollowing notes are intended to serve as auxiliary information for people interested in this experimental test case.  These are </a:t>
            </a:r>
            <a:r>
              <a:rPr b="0" i="1" lang="en-US" sz="1200" spc="-1" strike="noStrike">
                <a:solidFill>
                  <a:srgbClr val="000000"/>
                </a:solidFill>
                <a:latin typeface="Times New Roman"/>
                <a:ea typeface="Times New Roman"/>
              </a:rPr>
              <a:t>not</a:t>
            </a:r>
            <a:r>
              <a:rPr b="0" lang="en-US" sz="1200" spc="-1" strike="noStrike">
                <a:solidFill>
                  <a:srgbClr val="000000"/>
                </a:solidFill>
                <a:latin typeface="Times New Roman"/>
                <a:ea typeface="Times New Roman"/>
              </a:rPr>
              <a:t> officially publishable or referenceable as yet; they are intended for information only. All definitions are consistent with the information published on the websit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7 figures.  All but figure 7 have five parts (a-e) and they are all arranged the same way, namely (a) Cp on the entire model and splitter plates; (b) Cp zoomed in on the bubble; (c) “leading-edge” (LE) spanwise Cp (at x/c=0.19); (d) “trailing-edge” (TE) spanwise Cp (at x/c=0.86); and (e) C’p (rms) in the bubble region. Figure 7 shows tunnel ceiling pressur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ELINE DAT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1 shows that there is no significant Reynolds number effect for Re</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557,400 on this model. Also the extent of the bubble is similar to that of Seifert &amp; Pack (S&amp;P) at much higher Re. (The reference pressure of S&amp;P was adjusted by 0.266% in order to match their inflow Cp with the present data). The suction peak upstream of the slot is somewhat higher that that of S&amp;P. The most likely reason for this is blockage:  the ratio of model height to tunnel height are different - h/H=8% (S&amp;P) and 13% (present setup). It is not clear why the C’p differ quantitatively with the S&amp;P dat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2 shows a comparison between the open slot (sealed internally at the bottom of the manifold) and the slot taped over externally. The static and dynamic pressures are virtually insensitive to the presence of the slo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35080" y="460440"/>
            <a:ext cx="8673840" cy="5931000"/>
          </a:xfrm>
          <a:prstGeom prst="rect">
            <a:avLst/>
          </a:prstGeom>
          <a:ln w="0">
            <a:noFill/>
          </a:ln>
        </p:spPr>
      </p:pic>
      <p:sp>
        <p:nvSpPr>
          <p:cNvPr id="5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35080" y="460440"/>
            <a:ext cx="8673840" cy="5931000"/>
          </a:xfrm>
          <a:prstGeom prst="rect">
            <a:avLst/>
          </a:prstGeom>
          <a:ln w="0">
            <a:noFill/>
          </a:ln>
        </p:spPr>
      </p:pic>
      <p:sp>
        <p:nvSpPr>
          <p:cNvPr id="6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35080" y="460440"/>
            <a:ext cx="8673840" cy="5931000"/>
          </a:xfrm>
          <a:prstGeom prst="rect">
            <a:avLst/>
          </a:prstGeom>
          <a:ln w="0">
            <a:noFill/>
          </a:ln>
        </p:spPr>
      </p:pic>
      <p:sp>
        <p:nvSpPr>
          <p:cNvPr id="62"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35080" y="460440"/>
            <a:ext cx="8673840" cy="5931000"/>
          </a:xfrm>
          <a:prstGeom prst="rect">
            <a:avLst/>
          </a:prstGeom>
          <a:ln w="0">
            <a:noFill/>
          </a:ln>
        </p:spPr>
      </p:pic>
      <p:sp>
        <p:nvSpPr>
          <p:cNvPr id="6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35080" y="460440"/>
            <a:ext cx="8673840" cy="5931000"/>
          </a:xfrm>
          <a:prstGeom prst="rect">
            <a:avLst/>
          </a:prstGeom>
          <a:ln w="0">
            <a:noFill/>
          </a:ln>
        </p:spPr>
      </p:pic>
      <p:sp>
        <p:nvSpPr>
          <p:cNvPr id="6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35080" y="460440"/>
            <a:ext cx="8673840" cy="5931000"/>
          </a:xfrm>
          <a:prstGeom prst="rect">
            <a:avLst/>
          </a:prstGeom>
          <a:ln w="0">
            <a:noFill/>
          </a:ln>
        </p:spPr>
      </p:pic>
      <p:sp>
        <p:nvSpPr>
          <p:cNvPr id="6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35080" y="460440"/>
            <a:ext cx="8673840" cy="5931000"/>
          </a:xfrm>
          <a:prstGeom prst="rect">
            <a:avLst/>
          </a:prstGeom>
          <a:ln w="0">
            <a:noFill/>
          </a:ln>
        </p:spPr>
      </p:pic>
      <p:sp>
        <p:nvSpPr>
          <p:cNvPr id="7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e</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b</a:t>
            </a:r>
            <a:endParaRPr b="0" lang="en-US" sz="2400" spc="-1" strike="noStrike">
              <a:solidFill>
                <a:srgbClr val="000000"/>
              </a:solidFill>
              <a:latin typeface="Times New Roman"/>
            </a:endParaRPr>
          </a:p>
        </p:txBody>
      </p:sp>
      <p:pic>
        <p:nvPicPr>
          <p:cNvPr id="76"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304920"/>
            <a:ext cx="8610480" cy="6079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TROL DAT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3 shows control from the two-dimensional slot via steady suction for increasing suction rates. Suction rates are often expressed as a mass flux coefficient (Cm). S&amp;P used Cµ, to allow direct comparison with oscillatory cases. Both are shown in figure 3. Note that the Cp scatter appears to increase in the vicinity of the bubble when suction is applied (e.g. figure 3b). This is because the dynamic pressure taps are mounted off the centerline and as suction is applied, the flow becomes slightly 3-D (see figure 3d – lines as a visual aid).  There is also a slight asymmetry in the spanwise pressures, which is most probably due to the slightly non-uniform slot width, which varies from about 0.029 inches to 0.031 inches from one side to the other (see the QA geometry data). Note that the bubble is not fully eliminated by the suction due to suction pump limitations.  However, low Re runs were performed at higher Cµ (or Cm), to eliminate the bubble (see figure 6 and discussion below). The C’p data shows a high peak at separation and another lower and flatter peak around reattachmen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4 shows the test condition (target Cµ=0.242%) at different Reynolds numbers (the CFD test is at Re=929,000, M=0.1). There is a Reynolds number effect that can be seen in figure 4b. Note also that the geometry of the slot is somewhat different than that of S&amp;P. For example, the present width is about 12% smaller than theirs, when referenced to chord. Figure 5 has a similar format to figure 4, but at higher Cµ~0.456%, and shows similar trends to those at lower Cµ.</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figure 6, low Re was used to obtain high Cµs and thus the bubble could be eliminated at Cµ~2.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7 shows the ceiling Cps for a variety of conditions. Note that these are approximate dimensions. There are no pressure taps above the model due to the optical glass access ther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vid Greenblat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SA LaR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S 170</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mpton, VA  23681</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7) 864-83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c</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d</a:t>
            </a:r>
            <a:endParaRPr b="0" lang="en-US" sz="2400" spc="-1" strike="noStrike">
              <a:solidFill>
                <a:srgbClr val="000000"/>
              </a:solidFill>
              <a:latin typeface="Times New Roman"/>
            </a:endParaRPr>
          </a:p>
        </p:txBody>
      </p:sp>
      <p:pic>
        <p:nvPicPr>
          <p:cNvPr id="80"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e</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35080" y="460440"/>
            <a:ext cx="8673840" cy="5931000"/>
          </a:xfrm>
          <a:prstGeom prst="rect">
            <a:avLst/>
          </a:prstGeom>
          <a:ln w="0">
            <a:noFill/>
          </a:ln>
        </p:spPr>
      </p:pic>
      <p:sp>
        <p:nvSpPr>
          <p:cNvPr id="8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35080" y="460440"/>
            <a:ext cx="8673840" cy="5931000"/>
          </a:xfrm>
          <a:prstGeom prst="rect">
            <a:avLst/>
          </a:prstGeom>
          <a:ln w="0">
            <a:noFill/>
          </a:ln>
        </p:spPr>
      </p:pic>
      <p:sp>
        <p:nvSpPr>
          <p:cNvPr id="8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235080" y="460440"/>
            <a:ext cx="8673840" cy="5931000"/>
          </a:xfrm>
          <a:prstGeom prst="rect">
            <a:avLst/>
          </a:prstGeom>
          <a:ln w="0">
            <a:noFill/>
          </a:ln>
        </p:spPr>
      </p:pic>
      <p:sp>
        <p:nvSpPr>
          <p:cNvPr id="8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35080" y="460440"/>
            <a:ext cx="8673840" cy="5931000"/>
          </a:xfrm>
          <a:prstGeom prst="rect">
            <a:avLst/>
          </a:prstGeom>
          <a:ln w="0">
            <a:noFill/>
          </a:ln>
        </p:spPr>
      </p:pic>
      <p:sp>
        <p:nvSpPr>
          <p:cNvPr id="9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35080" y="460440"/>
            <a:ext cx="8673840" cy="5931000"/>
          </a:xfrm>
          <a:prstGeom prst="rect">
            <a:avLst/>
          </a:prstGeom>
          <a:ln w="0">
            <a:noFill/>
          </a:ln>
        </p:spPr>
      </p:pic>
      <p:sp>
        <p:nvSpPr>
          <p:cNvPr id="92"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35080" y="460440"/>
            <a:ext cx="8673840" cy="5931000"/>
          </a:xfrm>
          <a:prstGeom prst="rect">
            <a:avLst/>
          </a:prstGeom>
          <a:ln w="0">
            <a:noFill/>
          </a:ln>
        </p:spPr>
      </p:pic>
      <p:sp>
        <p:nvSpPr>
          <p:cNvPr id="9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35080" y="460440"/>
            <a:ext cx="8673840" cy="5931000"/>
          </a:xfrm>
          <a:prstGeom prst="rect">
            <a:avLst/>
          </a:prstGeom>
          <a:ln w="0">
            <a:noFill/>
          </a:ln>
        </p:spPr>
      </p:pic>
      <p:sp>
        <p:nvSpPr>
          <p:cNvPr id="9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299880"/>
            <a:ext cx="9144000" cy="6251760"/>
          </a:xfrm>
          <a:prstGeom prst="rect">
            <a:avLst/>
          </a:prstGeom>
          <a:ln w="0">
            <a:noFill/>
          </a:ln>
        </p:spPr>
      </p:pic>
      <p:sp>
        <p:nvSpPr>
          <p:cNvPr id="44" name=""/>
          <p:cNvSpPr/>
          <p:nvPr/>
        </p:nvSpPr>
        <p:spPr>
          <a:xfrm>
            <a:off x="1440" y="64008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35080" y="460440"/>
            <a:ext cx="8673840" cy="5931000"/>
          </a:xfrm>
          <a:prstGeom prst="rect">
            <a:avLst/>
          </a:prstGeom>
          <a:ln w="0">
            <a:noFill/>
          </a:ln>
        </p:spPr>
      </p:pic>
      <p:sp>
        <p:nvSpPr>
          <p:cNvPr id="9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35080" y="460440"/>
            <a:ext cx="8673840" cy="5931000"/>
          </a:xfrm>
          <a:prstGeom prst="rect">
            <a:avLst/>
          </a:prstGeom>
          <a:ln w="0">
            <a:noFill/>
          </a:ln>
        </p:spPr>
      </p:pic>
      <p:sp>
        <p:nvSpPr>
          <p:cNvPr id="10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35080" y="460440"/>
            <a:ext cx="8673840" cy="5931000"/>
          </a:xfrm>
          <a:prstGeom prst="rect">
            <a:avLst/>
          </a:prstGeom>
          <a:ln w="0">
            <a:noFill/>
          </a:ln>
        </p:spPr>
      </p:pic>
      <p:sp>
        <p:nvSpPr>
          <p:cNvPr id="102"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28600" y="460440"/>
            <a:ext cx="8686800" cy="59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35080" y="460440"/>
            <a:ext cx="8673840" cy="5931000"/>
          </a:xfrm>
          <a:prstGeom prst="rect">
            <a:avLst/>
          </a:prstGeom>
          <a:ln w="0">
            <a:noFill/>
          </a:ln>
        </p:spPr>
      </p:pic>
      <p:sp>
        <p:nvSpPr>
          <p:cNvPr id="4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35080" y="460440"/>
            <a:ext cx="8673840" cy="5931000"/>
          </a:xfrm>
          <a:prstGeom prst="rect">
            <a:avLst/>
          </a:prstGeom>
          <a:ln w="0">
            <a:noFill/>
          </a:ln>
        </p:spPr>
      </p:pic>
      <p:sp>
        <p:nvSpPr>
          <p:cNvPr id="4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35080" y="460440"/>
            <a:ext cx="8673840" cy="5931000"/>
          </a:xfrm>
          <a:prstGeom prst="rect">
            <a:avLst/>
          </a:prstGeom>
          <a:ln w="0">
            <a:noFill/>
          </a:ln>
        </p:spPr>
      </p:pic>
      <p:sp>
        <p:nvSpPr>
          <p:cNvPr id="5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35080" y="463680"/>
            <a:ext cx="8673840" cy="5930640"/>
          </a:xfrm>
          <a:prstGeom prst="rect">
            <a:avLst/>
          </a:prstGeom>
          <a:ln w="0">
            <a:noFill/>
          </a:ln>
        </p:spPr>
      </p:pic>
      <p:sp>
        <p:nvSpPr>
          <p:cNvPr id="5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35080" y="460440"/>
            <a:ext cx="8673840" cy="5931000"/>
          </a:xfrm>
          <a:prstGeom prst="rect">
            <a:avLst/>
          </a:prstGeom>
          <a:ln w="0">
            <a:noFill/>
          </a:ln>
        </p:spPr>
      </p:pic>
      <p:sp>
        <p:nvSpPr>
          <p:cNvPr id="5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5T00:06:06Z</dcterms:created>
  <dc:creator>David Greenblatt</dc:creator>
  <dc:description/>
  <dc:language>en-US</dc:language>
  <cp:lastModifiedBy>Joeseph H. Morrison</cp:lastModifiedBy>
  <dcterms:modified xsi:type="dcterms:W3CDTF">2003-11-24T13:39:21Z</dcterms:modified>
  <cp:revision>64</cp:revision>
  <dc:subject/>
  <dc:title>PowerPoint Presentation</dc:title>
</cp:coreProperties>
</file>